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AC9B-2689-49A8-9A29-FDDE6BABF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AEA0-EAF4-4614-9CB7-1FF2E25B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D79F-A516-45DB-9FDC-9D8D8EA22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8B5C-C87E-4F68-8987-23982E0C3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2AC0-DBB1-4298-BB53-3B5828FA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5892-CBB4-427D-901A-70A7FDD6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D3F6-186D-4E3C-8CDC-B76CB595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80E9-1A08-4D03-ACBA-B63791B0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67EA-6CD9-4776-BF52-04B6BB8B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6F25-8236-443C-AADB-47DF0AA6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8182-D63D-4401-A09E-246C7E01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4411-CC12-4F6A-AF90-BE601EA8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B923-C3CD-4583-9365-2EA527EE3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heteacher99.btinternet.co.uk/theteacher/gcse/newgcse/module8/task8.ht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ARN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Protection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RNi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has to b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ure – elabor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84360" y="2924280"/>
            <a:ext cx="42861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Ni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has to b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curate – elabor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87640" y="2924280"/>
            <a:ext cx="296244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i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has to b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vant – elabor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47624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has to be sent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 out of the EEC – elabor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24000" y="2781360"/>
            <a:ext cx="460872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k at this web sit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heteacher99.btinternet.co.uk/theteacher/gcse/newgcse/module8/task8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10:52:36Z</dcterms:created>
  <dc:creator> </dc:creator>
  <dc:description/>
  <dc:language>en-US</dc:language>
  <cp:lastModifiedBy> </cp:lastModifiedBy>
  <dcterms:modified xsi:type="dcterms:W3CDTF">2010-02-23T10:57:53Z</dcterms:modified>
  <cp:revision>2</cp:revision>
  <dc:subject/>
  <dc:title>SARNito</dc:title>
</cp:coreProperties>
</file>